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B9A04-F73C-4C74-A053-40AA1A861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8B77-D099-4105-8D93-9689EAD8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96F4-CAB6-42A1-8CEE-43D3C920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AC175-B2AF-48BF-8E8E-863F8CC0E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D55B-083D-4744-84DE-A8BEBBD2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E078E-57EF-4F4D-AC33-6E4AC6453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003BA-AE5E-4805-A933-25591A64B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E86DD-5D5A-4157-890C-CEAD2007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FE0A-F816-4BD8-AE69-0F7FFCFF9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3EC4-CBBF-4C2D-A035-89D5C5386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F10A-0F74-45D2-9641-3009E3A1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E58F9-9DDE-4AA0-8360-D75E10E3E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2AAE-E9E1-4C35-8AED-ECF7EAF85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447920" y="495252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6H7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ajor developments following WWI: the Russian Revolution, the Treaty of Versailles, world-wide depression, and the rise of Nazis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2695680" y="1552680"/>
            <a:ext cx="3752640" cy="32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uses of the Great Depres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ability to pay back lo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ks started to want loans paid ba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ople out of work and investors who did   not make a profit in the stock market could not pay back their lo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ks collapsed and many people lost their entire sav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reat Depression spreads to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merican investors pulled their money out of European ban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European economy collapsed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alf of Germany’s population was unemploy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grpSp>
        <p:nvGrpSpPr>
          <p:cNvPr id="73" name=""/>
          <p:cNvGrpSpPr/>
          <p:nvPr/>
        </p:nvGrpSpPr>
        <p:grpSpPr>
          <a:xfrm>
            <a:off x="833400" y="1957320"/>
            <a:ext cx="3286080" cy="3810240"/>
            <a:chOff x="833400" y="1957320"/>
            <a:chExt cx="3286080" cy="3810240"/>
          </a:xfrm>
        </p:grpSpPr>
        <p:pic>
          <p:nvPicPr>
            <p:cNvPr id="74" name="" descr=""/>
            <p:cNvPicPr/>
            <p:nvPr/>
          </p:nvPicPr>
          <p:blipFill>
            <a:blip r:embed="rId1"/>
            <a:stretch/>
          </p:blipFill>
          <p:spPr>
            <a:xfrm>
              <a:off x="833400" y="1957320"/>
              <a:ext cx="3286080" cy="3810240"/>
            </a:xfrm>
            <a:prstGeom prst="rect">
              <a:avLst/>
            </a:prstGeom>
            <a:ln w="0">
              <a:noFill/>
            </a:ln>
          </p:spPr>
        </p:pic>
        <p:sp>
          <p:nvSpPr>
            <p:cNvPr id="75" name=""/>
            <p:cNvSpPr txBox="1"/>
            <p:nvPr/>
          </p:nvSpPr>
          <p:spPr>
            <a:xfrm>
              <a:off x="833400" y="1957320"/>
              <a:ext cx="328608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th the humiliation of the German people, the huge debt, and the starvation and economic depression in Germany after WWI, it is easy to see why the German people would put their faith in Hitler in a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 period when money loses it value and businesses raise pr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 – period of low economic activity when many people lose their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id the Treaty of Versailles and world-wide depression impact Europe in the years between World War I and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ssion in German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Resentment and Humili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fter the war Germany resented losing territory and making war pay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8" name="" descr=""/>
          <p:cNvPicPr/>
          <p:nvPr/>
        </p:nvPicPr>
        <p:blipFill>
          <a:blip r:embed="rId1"/>
          <a:stretch/>
        </p:blipFill>
        <p:spPr>
          <a:xfrm>
            <a:off x="4648320" y="2225520"/>
            <a:ext cx="4038480" cy="32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Germany made the first of the reparation payments in 1921 and claimed the next year that they could not afford to pay anymore.</a:t>
            </a:r>
            <a:endParaRPr b="0" lang="en-US" sz="2800" spc="-1" strike="noStrike">
              <a:solidFill>
                <a:srgbClr val="000000"/>
              </a:solidFill>
              <a:latin typeface="Arial"/>
            </a:endParaRPr>
          </a:p>
        </p:txBody>
      </p:sp>
      <p:pic>
        <p:nvPicPr>
          <p:cNvPr id="51" name="" descr=""/>
          <p:cNvPicPr/>
          <p:nvPr/>
        </p:nvPicPr>
        <p:blipFill>
          <a:blip r:embed="rId1"/>
          <a:stretch/>
        </p:blipFill>
        <p:spPr>
          <a:xfrm>
            <a:off x="4800600" y="2362320"/>
            <a:ext cx="4038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rance’s Respon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nce was going to use the German payments to rebuild their own econom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y sent troops into the Ruhr Valley to seize valuable mines and factories that belonged to Germany as payment.</a:t>
            </a:r>
            <a:endParaRPr b="0" lang="en-US" sz="2800" spc="-1" strike="noStrike">
              <a:solidFill>
                <a:srgbClr val="000000"/>
              </a:solidFill>
              <a:latin typeface="Arial"/>
            </a:endParaRPr>
          </a:p>
        </p:txBody>
      </p:sp>
      <p:pic>
        <p:nvPicPr>
          <p:cNvPr id="54" name="" descr=""/>
          <p:cNvPicPr/>
          <p:nvPr/>
        </p:nvPicPr>
        <p:blipFill>
          <a:blip r:embed="rId1"/>
          <a:stretch/>
        </p:blipFill>
        <p:spPr>
          <a:xfrm>
            <a:off x="5257800" y="1828800"/>
            <a:ext cx="327672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rmany’s Respon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workers at these factories and mines went on strike to protest France’s take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o help pay these workers’ wages, Germany began printing more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is backfired on the Germans causing </a:t>
            </a:r>
            <a:r>
              <a:rPr b="1" i="1" lang="en-US" sz="1800" spc="-1" strike="noStrike">
                <a:solidFill>
                  <a:srgbClr val="000000"/>
                </a:solidFill>
                <a:latin typeface="Arial"/>
              </a:rPr>
              <a:t>inflation.  Inflation</a:t>
            </a:r>
            <a:r>
              <a:rPr b="0" lang="en-US" sz="1800" spc="-1" strike="noStrike">
                <a:solidFill>
                  <a:srgbClr val="000000"/>
                </a:solidFill>
                <a:latin typeface="Arial"/>
              </a:rPr>
              <a:t> is when money starts to lose its value and businesses raise their prices.  The result is that it takes more money to buy th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oon, German people had to have wheelbarrows full of money just to buy a loaf of brea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5257800" y="1828800"/>
            <a:ext cx="3048120" cy="3276720"/>
          </a:xfrm>
          <a:prstGeom prst="rect">
            <a:avLst/>
          </a:prstGeom>
          <a:ln w="0">
            <a:noFill/>
          </a:ln>
        </p:spPr>
      </p:pic>
      <p:sp>
        <p:nvSpPr>
          <p:cNvPr id="58" name=""/>
          <p:cNvSpPr/>
          <p:nvPr/>
        </p:nvSpPr>
        <p:spPr>
          <a:xfrm>
            <a:off x="5257800" y="5410080"/>
            <a:ext cx="3200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German woman is using German paper money to keep her stove going.  It was so worthless, the best use was for firewo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awes Pl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lan created in 1924 by the United States and other Western European nations to help Germany recover from its economic proble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plan would reduce the amount of money owed by Germany, set affordable payments, and loaned Germany 200 million doll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is worked for a short time but the Dawes Plan set the world economy up for disaster.</a:t>
            </a:r>
            <a:endParaRPr b="0" lang="en-US" sz="2000" spc="-1" strike="noStrike">
              <a:solidFill>
                <a:srgbClr val="000000"/>
              </a:solidFill>
              <a:latin typeface="Arial"/>
            </a:endParaRPr>
          </a:p>
        </p:txBody>
      </p:sp>
      <p:grpSp>
        <p:nvGrpSpPr>
          <p:cNvPr id="61" name=""/>
          <p:cNvGrpSpPr/>
          <p:nvPr/>
        </p:nvGrpSpPr>
        <p:grpSpPr>
          <a:xfrm>
            <a:off x="0" y="0"/>
            <a:ext cx="0" cy="0"/>
            <a:chOff x="0" y="0"/>
            <a:chExt cx="0" cy="0"/>
          </a:xfrm>
        </p:grpSpPr>
      </p:grpSp>
      <p:pic>
        <p:nvPicPr>
          <p:cNvPr id="62" name="" descr=""/>
          <p:cNvPicPr/>
          <p:nvPr/>
        </p:nvPicPr>
        <p:blipFill>
          <a:blip r:embed="rId1"/>
          <a:stretch/>
        </p:blipFill>
        <p:spPr>
          <a:xfrm>
            <a:off x="4952880" y="1600200"/>
            <a:ext cx="3353040" cy="3352680"/>
          </a:xfrm>
          <a:prstGeom prst="rect">
            <a:avLst/>
          </a:prstGeom>
          <a:ln w="0">
            <a:noFill/>
          </a:ln>
        </p:spPr>
      </p:pic>
      <p:sp>
        <p:nvSpPr>
          <p:cNvPr id="63" name=""/>
          <p:cNvSpPr/>
          <p:nvPr/>
        </p:nvSpPr>
        <p:spPr>
          <a:xfrm>
            <a:off x="4952880" y="5334120"/>
            <a:ext cx="3505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 Dawes: creator of the Dawes Plan and Vice-President of the United States under Calvin Coolid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uses of the Great Dep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rash of the U.S. stock mark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stors would buy stock with borrowed money.  As long as stock prices increased, investors made the money to pay back the loans.  HOWEVER, when stock prices decreased, investors were stuck with a loan they could not pa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uses of the Great Depres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verp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y factories made too many goods and were not able to sell all they produced.  This forced factories to slow down production and lay off work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reated a problem because of the high number of unemployed people.  They could not support themsel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es this sound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01:24Z</dcterms:created>
  <dc:creator>Lorrie</dc:creator>
  <dc:description/>
  <dc:language>en-US</dc:language>
  <cp:lastModifiedBy>default</cp:lastModifiedBy>
  <dcterms:modified xsi:type="dcterms:W3CDTF">2008-12-01T12:08:54Z</dcterms:modified>
  <cp:revision>12</cp:revision>
  <dc:subject/>
  <dc:title>The Great Depression</dc:title>
</cp:coreProperties>
</file>